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A02-B7AF-44E3-85A2-8E304D39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8D6-5A72-4954-809A-1BA160C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D2E2-34E5-4F2F-AA8B-EFC0652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AC09-230C-49CB-AFE2-A8C3E88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9C894-C292-4E9C-8CBC-4330AC05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BD62F-7386-45E0-8900-78A6D8D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49CA6-4B43-4F01-814C-4F8C292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3884C-5895-4CF5-875C-5022748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150AB-102F-47AF-BE06-ECD18B85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19635-F307-42C0-8C79-D0196548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23D91-7C13-44DA-B9FE-6DF09230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EDC33-2DBF-4BD5-95E0-AB071171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288-D6D2-46BD-9D5D-83D712F6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91727-38B3-4E12-82F3-DE9EBC8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C30E4-C0E1-4851-A103-E396F1C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DB973-B622-4938-834D-258D9CDE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07650-0CE4-4350-9636-E313E931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A0EB5-CFC3-4B8C-8576-AD741F6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D70B1-4119-4A39-AE4E-34B15F9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DC63-176D-43F7-8014-413BC07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64BD4-6D8C-4722-A957-F1229C0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8C75-3063-49B1-8796-1D9B112B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0DB8-C7C3-46CB-B71E-DA14E63D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837-D538-466D-9FFC-0B04DD69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B4399-9AEC-48FB-80E1-2BFB058F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DB78E-88FF-4BF9-98BD-327A793A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230FC-D678-4980-8244-8BF322F8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53324-04E8-4777-B748-6921B5D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FF9C3-75CA-4E7A-A53E-D61DAEF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85D7A-2BF1-4153-809D-CCE66FF6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61CA-8277-4C36-AA56-738E7F5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E8458-2846-429F-AB3A-67A6652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E1DFF-6F66-4D18-B330-2696205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89014-C620-40A2-A026-FEF3550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7CA6-ED28-48DA-AE23-D4C9BD7C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66DAC-026A-4564-BEEC-4436FBE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6A02D-7E16-419B-99AA-8EFD9160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E249F-AF34-496D-9B22-BFF7A265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D0A11-A76D-499F-B2FC-A2DE75FF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DFAAF-5BE6-418C-886B-7714C8C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869FC-059F-4B9C-B9B5-FA52EF1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57F85-3294-484F-91F4-131CB2F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C554D-E8E1-49CC-AFFF-B5BF9350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9E324-0104-44D9-A95B-E73E854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040AD-C862-4FA8-AC44-97EFE587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2E05-971A-42CD-955F-5EC76DE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4C0A9-2495-441B-8AD7-B4A299C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C02A7-69D1-44DD-BBD1-4EB7ED1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2705-3BEC-41FB-BC3C-609E080E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02492-E84A-4E1C-B643-51248463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28585-0B4C-4546-B474-B5F9F12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2AC-9FB7-43E8-87B4-B8A1478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E059-F289-4599-B919-B60D03BE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9FBA-F6A0-4826-A0A6-B0634F17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C7F-4CA2-4689-B0FC-8A3F7664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2F19-691B-4DBC-BC3E-4DB98BA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73B-7231-4366-A35B-76D7ADF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5003-13D6-424D-984E-B99D9CF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9419-C4EF-4ABA-824F-C8FB72C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85F4-5ED0-4CE9-8E70-27D0ADA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C85-2B45-401B-9062-6ABA5C83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C994-838D-43A1-BF8A-6EFCDFC0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1CEF-0F0B-4974-86F3-2D22FD7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8AD8-372E-4878-BD1B-F8F2B60C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3FE6-1031-4EF1-98E2-3ADBC447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FD47-6940-45E4-9ED9-64B86C8D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5D23-BCB1-4717-95E1-82ED2513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EB9-400F-43C5-9A43-812983A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0ADE-C54E-46D8-BA16-C513B7C6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352F-CC4A-4848-BA0C-DBAF7F7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4F44-4384-4C42-8FC8-9D702A6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CF14-7188-489B-A027-7164963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8862-C39C-4819-9F9D-AF60753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64DF-3E5E-4F77-B917-3B200EA8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03FE-77BB-47C0-9CB4-DB653E90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5F7B-0155-4A78-8B24-0EB866A6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9030-9B6C-4B10-9FF3-640846D1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2680-6581-435E-B7FF-6D0931F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E06-39E8-4FD7-B473-9CE9285A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B904-2D18-4EF2-9BFD-3C6534F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8764-C178-4971-8234-01800AE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D968-EB32-4015-A023-F16617C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5A4C-62EF-4BC1-9B50-D981AAC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5D8B-9DB6-4CC5-934F-DC085CA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97D2-8E14-40A8-BF3C-B478213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AA52-0F83-45FF-9F6F-388B488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B25B-4D14-413E-946B-16FFED6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C239-1211-415E-A273-D26FB584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C007-BECF-4195-A2A7-5EBDD10C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BB8-8321-4946-94E9-D352360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4943-8408-495B-8EE2-95081FF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9BD6-0D11-4F50-9ABB-2641E1E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7E52-9101-4083-B5FD-8A77E8D2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46FD-B1DE-4C6B-995A-C0528BF3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C6E3-A223-4088-AD86-954F56B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038C-8967-48D8-9C90-6B5D4F1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A71A7-7500-4037-8453-4C74749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9644-E25E-43EC-8568-92D4089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065E-0764-4240-B0E4-03777FC5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D205F-50B7-420D-BCA9-77BE995C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150-BDAB-4415-A779-7F3071F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4153-CEC3-4FD5-903A-BE486A10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F978-5C90-485B-B0C6-2CA59D44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82BB-9A74-40A2-A697-3BD05E5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48DB-9D54-4CA4-AC82-3FFF56D8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AD06-EFDB-4FA1-9515-19907C4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F33F-FBF9-47BE-98E5-4AD34EF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0BF9-A80A-48DB-B1D1-49A21A81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B9F7-BDF0-4308-B2D5-8533CAE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51FDC-9513-4B69-9299-09830F53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96FB-6CB1-46D4-B668-54F5B38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E9D-F6FF-47F1-A111-2FAC78D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4846-4E06-4068-90A0-0307CD8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AEC5-49BD-4B86-821B-67115E0B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DCA76-0039-4AC1-8170-0A4219A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5CAC-0481-4299-942D-025C204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2CA95-10DA-4EF9-ABF8-B201DFC5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2050-865D-470F-B6AF-2A3AB08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5D62-2743-4FE7-AD10-B04D9FE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DCB24-DF0E-4C69-AE21-CF0D3E3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DB19-3E4F-4D23-BA08-D079CF5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D00A-52EA-4FA1-87FA-5B9A567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14C-EF47-400E-B26E-5603923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0509-D5E3-4460-A829-3362AF3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A143-4678-4B35-B0D0-0340558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F2EA-B373-4AD6-ACBC-4237E20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4644-2158-4269-8C2B-78F1FB95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87430-57AB-4E79-805D-7D9C7D5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60428-0731-4AD2-BB1B-BAAED97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C992-0B3C-4CD7-B6B8-34C62AEC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6540F-0954-4D31-BF56-6BF3BAB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B930-E6A1-4CD6-BCC8-D0F9F03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045B8-FB9A-4474-BBE8-8CF75A1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18D-BD12-4817-A45E-AA857E7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0BB1-7227-475F-AD46-815E354E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BD50-718F-47F7-A4E6-E2295E8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B4EB-537C-4C88-B83C-E30C6A3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6B71F-7BE7-4C08-B837-CDFF423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8C1E-994B-413A-A766-D9DB8CC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6136-F314-4DEC-B6A5-18DE2ECB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BC6A0-F24F-4752-A7CA-C0B05B52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9E8C-B402-4204-A620-91730560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40FDA-D648-4647-AD57-E6615F6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6034-E820-4207-AD2E-04F3D01C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F82-8A2C-4AAD-9A9B-2EA95E8ADA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D05C-D0BC-4B9F-80C9-F80F911939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855A-5B82-4CC1-B077-0EAA0740E1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F3A-32A5-419A-AC4C-67861CA843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0FE9-41B4-42DA-89A8-6C5EB378A1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22C3-DCD3-460D-9D82-61E361CA0B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0CE4-0A69-4218-B16F-82B5DEF588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F70-3E13-42FC-95A2-5777387D6C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6034-0308-430A-B5DE-249B466C01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4B9-B2E7-40C6-8EC3-64367FDFD5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5EB-AEE6-490D-BA4F-1C4B026140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55C-5DFB-49A4-A6B8-4EE525B57C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5 Poď k Spasiteľ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 k Spasiteľ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 k nemu svoj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každý deň no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ďačne ho chv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ádej sa 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iesť chcel by ťa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íťazstvo dá 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na ran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ie, čo ťa tráp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počuje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radosť ti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život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már závoj sa s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úzkostí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lnka lúč zla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rozjasní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je tvoj blíž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v trápení, tm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mučivej tríz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 dolieha strac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ruku ho vez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v prosbe sa sklo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 vďačnej zas pies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ový dá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skončenej pú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privíta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už nezarmú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vet nespáli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j nebeskej vla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iery je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zbaviť nás stra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Vykup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39:32Z</dcterms:modified>
  <cp:revision>22</cp:revision>
  <dc:subject/>
  <dc:title>Je veľký náš Pán, on slávy je Kráľ Nech do všetkých strán  spev vrúcnych znie chvál.</dc:title>
</cp:coreProperties>
</file>